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bmsfx3.wav" ContentType="audio/x-wav"/>
  <Override PartName="/ppt/media/bmwon.wav" ContentType="audio/x-wav"/>
  <Override PartName="/ppt/media/bmfinal.wav" ContentType="audio/x-wav"/>
  <Override PartName="/ppt/media/image1.wmf" ContentType="image/x-wmf"/>
  <Override PartName="/ppt/media/wbmsfx5.wav" ContentType="audio/x-wav"/>
  <Override PartName="/ppt/media/image2.wmf" ContentType="image/x-wmf"/>
  <Override PartName="/ppt/media/wbmsfx7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3E6B-3B81-4B8D-86A0-3C00EB86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E2DF-E20E-473D-AE53-B5D6764D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2BA-937F-4734-B98B-547128A4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0B0D-66DB-435F-AAAE-F4F0DF9D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73A9-613B-4454-A1D2-42728827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48F1-A837-4C06-8C15-5B31EB28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1F54-6433-445A-AF91-B15F8E34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2EDC-CD3D-4710-BF44-490D49C0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3F37-B8FA-4BF2-955E-17CB6798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49EA-7DC1-47F9-8EF4-70E0FDC3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563C-D4EE-4B07-87E6-07200A18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1C32-A6E5-4165-A09C-337BCBEF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98E6-C0AB-455D-9994-399C5485F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bmsfx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6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8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20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" Target="slide35.xml"/><Relationship Id="rId4" Type="http://schemas.openxmlformats.org/officeDocument/2006/relationships/slide" Target="slide33.xml"/><Relationship Id="rId5" Type="http://schemas.openxmlformats.org/officeDocument/2006/relationships/slide" Target="slide31.xml"/><Relationship Id="rId6" Type="http://schemas.openxmlformats.org/officeDocument/2006/relationships/slide" Target="slide29.xml"/><Relationship Id="rId7" Type="http://schemas.openxmlformats.org/officeDocument/2006/relationships/slide" Target="slide27.xml"/><Relationship Id="rId8" Type="http://schemas.openxmlformats.org/officeDocument/2006/relationships/slide" Target="slide25.xml"/><Relationship Id="rId9" Type="http://schemas.openxmlformats.org/officeDocument/2006/relationships/slide" Target="slide23.xml"/><Relationship Id="rId10" Type="http://schemas.openxmlformats.org/officeDocument/2006/relationships/slide" Target="slide21.xml"/><Relationship Id="rId11" Type="http://schemas.openxmlformats.org/officeDocument/2006/relationships/slide" Target="slide19.xml"/><Relationship Id="rId12" Type="http://schemas.openxmlformats.org/officeDocument/2006/relationships/slide" Target="slide17.xml"/><Relationship Id="rId13" Type="http://schemas.openxmlformats.org/officeDocument/2006/relationships/slide" Target="slide15.xml"/><Relationship Id="rId14" Type="http://schemas.openxmlformats.org/officeDocument/2006/relationships/slide" Target="slide13.xml"/><Relationship Id="rId15" Type="http://schemas.openxmlformats.org/officeDocument/2006/relationships/slide" Target="slide11.xml"/><Relationship Id="rId16" Type="http://schemas.openxmlformats.org/officeDocument/2006/relationships/slide" Target="slide9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6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8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30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bmsfx7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1.wmf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3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3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36.xml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bmsfx7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bmsfx5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mwon.wav"/><Relationship Id="rId2" Type="http://schemas.openxmlformats.org/officeDocument/2006/relationships/audio" Target="../media/wbmsfx3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bmsfx3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mfinal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0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304920"/>
            <a:ext cx="81532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t's Play . . .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3657600"/>
            <a:ext cx="80010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ho Wants To Be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 Millionaire Student?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w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use of World War 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erial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meri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olatio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ere did the assassination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iggered World War I occ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s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sace-Lorr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elg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ttoman Emp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ere did the assassination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iggered World War I occ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s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elg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ar might have involved only two nat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stria-Hungary and Serbia, if not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allianc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Ameri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editionary Fo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eriali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pagan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ar might have involved only two nat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stria-Hungary and Serbia, if not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allianc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Ameri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editionary Fo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Schlieffen Plan was thought to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 effective strategy becaus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owed Germany to dr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uickly toward the French capi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ed in years of tren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fare in Fr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owed Germany to f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n two fronts at o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evented ships from ente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ters around Brit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Schlieffen Plan was thought to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 effective strategy becaus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owed Germany to f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n two fronts at o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evented ships from ente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ters around Brit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policy that kept the United States 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the war for three years was 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allianc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convoy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tionalis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utr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policy that kept the United States 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the war for three years was 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convoy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utr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at did the United States use to over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threat of German U-boa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v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ips fly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utral 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ir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flee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merican submar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21932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89548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80060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228600"/>
            <a:ext cx="3200400" cy="6400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2362320"/>
            <a:ext cx="0" cy="533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4038480"/>
            <a:ext cx="0" cy="762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175248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350532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541008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5238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47920" y="3048120"/>
            <a:ext cx="925560" cy="900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7920" y="4867200"/>
            <a:ext cx="990360" cy="97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00600" y="0"/>
            <a:ext cx="3429000" cy="695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$ 1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$ 5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$ 25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$ 12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$ 6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$ 3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$ 16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0" action="ppaction://hlinksldjump"/>
              </a:rPr>
              <a:t>$ 8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$ 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$ 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3" action="ppaction://hlinksldjump"/>
              </a:rPr>
              <a:t>$ 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4" action="ppaction://hlinksldjump"/>
              </a:rPr>
              <a:t>$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5" action="ppaction://hlinksldjump"/>
              </a:rPr>
              <a:t>$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6" action="ppaction://hlinksldjump"/>
              </a:rPr>
              <a:t>$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at did the United States use to over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threat of German U-boa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v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ips fly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utral 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8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was a resul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the Selective Service A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oops w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gregated by r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men could ser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 combat posi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 were required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gister for military serv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frican Americans could n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come Army offic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8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was a resul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the Selective Service A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 were required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gister for military serv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frican Americans could n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come Army offic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6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weapons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chaniz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f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ere introduced in World War 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ttlefront tre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ydrogen bom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stols and bayo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irplanes and 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6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weapons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chaniz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f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ere introduced in World War 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ydrogen bom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irplanes and t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3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n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ffered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ewe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ual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ustria-Hung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3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n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ffered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ewe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ual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6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nations w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member of the "Big Four"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>
            <a:hlinkClick r:id="rId1" action="ppaction://hlinksldjump"/>
          </p:cNvPr>
          <p:cNvSpPr/>
          <p:nvPr/>
        </p:nvSpPr>
        <p:spPr>
          <a:xfrm>
            <a:off x="68580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>
            <a:hlinkClick r:id="rId4" action="ppaction://hlinksldjump"/>
          </p:cNvPr>
          <p:cNvSpPr/>
          <p:nvPr/>
        </p:nvSpPr>
        <p:spPr>
          <a:xfrm>
            <a:off x="49528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6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nations w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member of the "Big Four"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rId1" action="ppaction://hlinksldjump"/>
          </p:cNvPr>
          <p:cNvSpPr/>
          <p:nvPr/>
        </p:nvSpPr>
        <p:spPr>
          <a:xfrm>
            <a:off x="68580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25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at reason did Senators give for oppo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S. membership in the League of N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 would lead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national insta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t would interfere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ee-trade agre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 would dr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rican fina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t would drag the United Sta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o European confli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09480"/>
            <a:ext cx="7696080" cy="3200400"/>
          </a:xfrm>
          <a:prstGeom prst="roundRect">
            <a:avLst>
              <a:gd name="adj" fmla="val 1716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2560" y="990720"/>
            <a:ext cx="72388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rry, that is not corre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 you for play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4648320"/>
            <a:ext cx="1066680" cy="11430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143000"/>
              <a:gd name="textAreaBottom" fmla="*/ 1073880 h 11430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0200" y="21745"/>
                </a:lnTo>
                <a:lnTo>
                  <a:pt x="20200" y="140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1400" y="21745"/>
                </a:lnTo>
                <a:lnTo>
                  <a:pt x="20200" y="2174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5"/>
                </a:lnTo>
                <a:close/>
              </a:path>
              <a:path fill="darken" w="21600" h="23145">
                <a:moveTo>
                  <a:pt x="3794" y="8265"/>
                </a:moveTo>
                <a:lnTo>
                  <a:pt x="7301" y="8265"/>
                </a:lnTo>
                <a:lnTo>
                  <a:pt x="7301" y="13600"/>
                </a:lnTo>
                <a:cubicBezTo>
                  <a:pt x="7301" y="14523"/>
                  <a:pt x="8102" y="15254"/>
                  <a:pt x="9138" y="15254"/>
                </a:cubicBezTo>
                <a:lnTo>
                  <a:pt x="10800" y="15254"/>
                </a:lnTo>
                <a:cubicBezTo>
                  <a:pt x="11836" y="15254"/>
                  <a:pt x="12636" y="14523"/>
                  <a:pt x="12636" y="13600"/>
                </a:cubicBezTo>
                <a:lnTo>
                  <a:pt x="12636" y="8265"/>
                </a:lnTo>
                <a:lnTo>
                  <a:pt x="10800" y="8265"/>
                </a:lnTo>
                <a:lnTo>
                  <a:pt x="14308" y="4757"/>
                </a:lnTo>
                <a:lnTo>
                  <a:pt x="17981" y="8265"/>
                </a:lnTo>
                <a:lnTo>
                  <a:pt x="16144" y="8265"/>
                </a:lnTo>
                <a:lnTo>
                  <a:pt x="16144" y="13600"/>
                </a:lnTo>
                <a:cubicBezTo>
                  <a:pt x="16144" y="16368"/>
                  <a:pt x="13568" y="18927"/>
                  <a:pt x="10800" y="18927"/>
                </a:cubicBezTo>
                <a:lnTo>
                  <a:pt x="9138" y="18927"/>
                </a:lnTo>
                <a:cubicBezTo>
                  <a:pt x="6370" y="18927"/>
                  <a:pt x="3794" y="16368"/>
                  <a:pt x="3794" y="136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25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at reason did Senators give for oppo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S. membership in the League of N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t would interfere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ee-trade agre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4800600" y="5486400"/>
            <a:ext cx="3505320" cy="762120"/>
            <a:chOff x="4800600" y="5486400"/>
            <a:chExt cx="3505320" cy="762120"/>
          </a:xfrm>
        </p:grpSpPr>
        <p:sp>
          <p:nvSpPr>
            <p:cNvPr id="553" name=""/>
            <p:cNvSpPr/>
            <p:nvPr/>
          </p:nvSpPr>
          <p:spPr>
            <a:xfrm>
              <a:off x="4800600" y="57150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6920" y="5486400"/>
              <a:ext cx="3429000" cy="7621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t would drag the United Stat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nto European conflict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00600" y="56386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5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bor leaders were targe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spionage and Sedition Acts because 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questioned whether war was righ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der any circumstan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fused to work in industries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ported the war eff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manded better conditions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orkers, even during a war cri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rId4" action="ppaction://hlinksldjump"/>
          </p:cNvPr>
          <p:cNvSpPr/>
          <p:nvPr/>
        </p:nvSpPr>
        <p:spPr>
          <a:xfrm>
            <a:off x="49528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eferred the Russian system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overnment to the American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5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bor leaders were targe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spionage and Sedition Acts because 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questioned whether war was righ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der any circumstan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>
            <a:hlinkClick r:id="rId2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manded better conditions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orkers, even during a war cri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merican supporters of entry into the war cou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im their country was fighting a moral war be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 United States joined the w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ly after Russia's oppress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archy was replac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ny citizens planted vi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ardens and bought war bon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 Zimmerman no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as intercep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frican Americans were offered ne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ob opportunities in northern cit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merican supporters of entry into the war cou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im their country was fighting a moral war be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 United States joined the w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ly after Russia's oppress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archy was replac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ny citizens planted vi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ardens and bought war bon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 Million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Treaty of Versailles overlooked the impor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dentifying the guil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ty in a w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cluding powerful nations lik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ited States in intern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ace-keeping organiz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rippling any nations that migh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ve dangerous in the fu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eating all nations justly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cluding the losers of a w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 Million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Treaty of Versailles overlooked the impor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cluding powerful nations lik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nited States in intern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ace-keeping organiz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eating all nations justly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cluding the losers of a w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457200"/>
            <a:ext cx="8458200" cy="3352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640" y="1523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ll on any studen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04920"/>
            <a:ext cx="8534160" cy="3352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1430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sk The Audienc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28600"/>
            <a:ext cx="8229600" cy="5181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609480"/>
            <a:ext cx="76197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now 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ILLIONAI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UDEN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mw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bmsfx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1447920"/>
            <a:ext cx="8534520" cy="2168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at’s right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o to 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NEXT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 ques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bmsfx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8153640" cy="312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s that you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nal Answer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bmfinal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w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use of World War 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erial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meri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olatio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urop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ation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stockpi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weap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5T00:54:10Z</dcterms:created>
  <dc:creator>Cindy Robertson</dc:creator>
  <dc:description/>
  <dc:language>en-US</dc:language>
  <cp:lastModifiedBy>JDORMAN</cp:lastModifiedBy>
  <dcterms:modified xsi:type="dcterms:W3CDTF">2007-03-05T18:38:07Z</dcterms:modified>
  <cp:revision>260</cp:revision>
  <dc:subject/>
  <dc:title>PowerPoint Presentation</dc:title>
</cp:coreProperties>
</file>